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0C4-507D-4081-A393-1912054E0A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BC9771-FF5F-402A-89B8-275D62D3FDE4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mport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 of the unique shape:  relates to the transportation of oxygen and  provides an increased surface area through which gas can diff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483-5515-42C9-A8DC-95BCAE7823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0774CB-7433-4CA0-8D42-C9E0799C0FCA}" type="slidenum">
              <a:rPr b="0" lang="en-US" sz="12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D165ADE4-3AA4-4903-BE84-B75F9E750D42}" type="slidenum">
              <a:rPr b="0" i="1" lang="en-US" sz="10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2D4-8047-456B-B60C-48FA1FAF7A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3325-3B8D-43BC-801A-1E36B9F65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C770-7DCD-464A-8388-59668415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6D37-7366-46C6-A9E9-CA83C250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F979-91AA-4BCF-9B6E-3FFE7421C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7CF68-6B59-4B35-9F63-AD643F42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0BB55-1D01-44D3-AFDF-A6BEB3B7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F5754-F81C-4F21-9FF5-535B120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E5740-84E4-4210-95E7-92D8A45F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FDB16-2DC1-4053-85B0-31557A17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76C4E-3480-4ECF-9D8D-C85196BA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74F6A-A6E3-42BD-8C53-B248EC9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0E72-75BF-4AC5-8ED7-77ED45AE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F247D-F77C-42D3-9B93-D446BDD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55F48-74BE-4165-ADA7-1007ABC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5B6EB-F980-4055-8F10-A6978979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D5A7B-274F-4E82-A88A-DFF08DA4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85687-1F8F-4CAD-9D95-8E1019CB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77FB-E9FE-4F4E-86D1-1627EECF29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F1A-FF50-449B-B7D5-E5F411C6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B61D-69D2-47AB-A1A9-F43E2859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1E6E-2D90-45E0-A0C7-79244ED4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7A7A-9FD4-4004-9DB0-06A029C2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06CF-7F39-4331-B495-C77263F7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D6C-79CB-40A4-AB43-B5FD99AA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C2DB-49EA-4E0B-A818-EEA55BBF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5912-95C7-457B-9325-92DF3AC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5D6A-B1AF-4B6A-9E7A-5359ED0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5184-7CA0-4689-BC6F-51063531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0F6A-E5AE-469B-A891-1765802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4EBE-40F6-4B88-9538-253CA5438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5A41F-A2DB-45E6-9BB5-150CEF23CC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F2049-2E3F-4D8A-ADAD-126C0E8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8FA6D-920E-47C5-BE76-50FFB64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B0A57-812D-4B96-B257-04B2C54D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6C081-F401-48E9-B4FA-97618DB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3860F3-6C38-4EE6-AB2E-6A9F9E29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D0FDF-8178-4D09-BB2D-0B2C8BDA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CC942-EBBF-4017-AB41-A5D1F661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767F3-6F63-4399-9B77-FC829E8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F2A60-DA2D-4AC1-994F-14E7A02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AAE75-56DF-4395-8B3D-B45DBB8A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7636F-61F7-4AB2-BECB-C5798986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24F7E-8CC9-4121-8909-A38B86379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9C24-2D4A-4B0F-9365-43F1C09C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28C-78AC-4755-B0F6-9929A000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6834-7ACD-4CF0-ACE5-33D90C89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560B-0603-4393-9DE4-5FB6C29D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2776-1E76-4E3D-9832-70D308BB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F3CA-0958-402A-A2FD-FDCE64F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C7E93-DD2E-4C2A-B171-F7B3378F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5D8A-8F9F-49E3-B8BB-F86F07BB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AD1EE-8176-420E-B474-63C35AA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E1001-6EBD-4DBC-BF7D-6E98440E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CC0E-7D54-4986-B2A5-03EEC8F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4FF5-71D3-4B7D-B976-C636FCE1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D9DFF-41B2-403D-BFDB-F6EAC05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8B124-0C00-4ADF-8DE4-E9C502BE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031D-6DEC-4997-9046-9F6186A9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994D5-98F2-4623-8DCD-207D041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0661-1626-48C7-8B75-1C57FBA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99F4-BCCF-4DE4-9E81-5A551D11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69F9-FE1E-4AFB-9CC1-979B2DB2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FCA4D-1054-4C6D-B1D1-51EB4181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E0D9-D67C-406E-B9DE-82BFACCE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E5DC2-4C85-4935-8CA7-9E64D1A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BF88-8ED0-490A-B88E-5EE2810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16C6-89B5-476C-B741-8CFBCA3E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99F9-6CFD-4882-9202-70B23C68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0CF0-7220-47AC-95D8-3AC9C2A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936C-C3BD-40E9-899E-D99066E5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0DB8C-3116-48D8-842C-2A3BB18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0E0-C910-431D-B55E-A3A1079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66760" y="3960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8920" y="1413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6676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8920" y="3960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7808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89400" y="1413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26676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7808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89400" y="3960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8AC9-5379-45AC-9F0B-7D5CFB3154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131-BFF3-4EE6-A12E-A61D40869CA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Num" idx="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F714-DC74-43A9-B60A-B2C91E1E572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Num" idx="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13AB-4497-472E-805F-6AFD335B48D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9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7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7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4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185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9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170-0EB2-4B48-8FC4-38713A945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2667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1668-9FD4-464B-A8E9-91BD517AD0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2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5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36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4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4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4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94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395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4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4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三章   血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12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（二）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黑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血浆渗透压的组成与正常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90600" y="47685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作用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细胞内外的水平衡和维持细胞形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42720" y="2181240"/>
            <a:ext cx="64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300mmo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770kPa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5790mmHg</a:t>
            </a: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2714760"/>
            <a:ext cx="7761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宋体"/>
              </a:rPr>
              <a:t>1)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宋体"/>
              </a:rPr>
              <a:t>晶体渗透压</a:t>
            </a:r>
            <a:r>
              <a:rPr b="0" lang="en-US" sz="3200" spc="-1" strike="noStrike">
                <a:solidFill>
                  <a:srgbClr val="800080"/>
                </a:solidFill>
                <a:latin typeface="Times New Roman"/>
                <a:ea typeface="宋体"/>
              </a:rPr>
              <a:t>(crystal osmotic pressur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298.5mmo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766.7kPa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755640" y="3903840"/>
            <a:ext cx="8153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晶体物质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*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NaCl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）形成的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75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75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75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3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3640" y="1269720"/>
            <a:ext cx="9001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  <a:ea typeface="黑体"/>
              </a:rPr>
              <a:t>2)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  <a:ea typeface="黑体"/>
              </a:rPr>
              <a:t>胶体渗透压</a:t>
            </a:r>
            <a:r>
              <a:rPr b="0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(colloid osmotic pressure)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1.5mmo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／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L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黑体"/>
              </a:rPr>
              <a:t>3.3 kP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94920" y="3193560"/>
            <a:ext cx="853452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中胶体物质（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白蛋白）形成的渗透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77960" y="429264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Arial"/>
                <a:ea typeface="宋体"/>
              </a:rPr>
              <a:t>作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Rectangle 55"/>
          <p:cNvSpPr/>
          <p:nvPr/>
        </p:nvSpPr>
        <p:spPr>
          <a:xfrm>
            <a:off x="1403280" y="52974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持血管内外的水平衡和血浆容量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7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75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3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C:\Users\xiaoqb\Desktop\第三章血液-姚阳\图片\渗透作用.jpg"/>
          <p:cNvPicPr/>
          <p:nvPr/>
        </p:nvPicPr>
        <p:blipFill>
          <a:blip r:embed="rId1"/>
          <a:stretch/>
        </p:blipFill>
        <p:spPr>
          <a:xfrm>
            <a:off x="1193760" y="1590840"/>
            <a:ext cx="6754680" cy="3676320"/>
          </a:xfrm>
          <a:prstGeom prst="rect">
            <a:avLst/>
          </a:prstGeom>
          <a:ln w="0">
            <a:noFill/>
          </a:ln>
        </p:spPr>
      </p:pic>
      <p:sp>
        <p:nvSpPr>
          <p:cNvPr id="53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28640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形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双凹碟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4" descr="FG16_06a"/>
          <p:cNvPicPr/>
          <p:nvPr/>
        </p:nvPicPr>
        <p:blipFill>
          <a:blip r:embed="rId1"/>
          <a:stretch/>
        </p:blipFill>
        <p:spPr>
          <a:xfrm>
            <a:off x="826920" y="2492280"/>
            <a:ext cx="4032360" cy="2878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FG16_06b"/>
          <p:cNvPicPr/>
          <p:nvPr/>
        </p:nvPicPr>
        <p:blipFill>
          <a:blip r:embed="rId2"/>
          <a:stretch/>
        </p:blipFill>
        <p:spPr>
          <a:xfrm>
            <a:off x="5003640" y="2492280"/>
            <a:ext cx="3745080" cy="28767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6"/>
          <p:cNvSpPr/>
          <p:nvPr/>
        </p:nvSpPr>
        <p:spPr>
          <a:xfrm>
            <a:off x="468360" y="566100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径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~8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周厚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.5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,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中心厚约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 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，体积 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90 </a:t>
            </a:r>
            <a:r>
              <a:rPr b="0" i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µ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m</a:t>
            </a:r>
            <a:r>
              <a:rPr b="0" lang="en-US" sz="22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25092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0058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红细胞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ed blood cell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，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RBC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3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3141360"/>
            <a:ext cx="388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6000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血红蛋白含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55640" y="1125360"/>
            <a:ext cx="66247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㈠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　正常值和生理功能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684360" y="501336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2124000" y="5157720"/>
            <a:ext cx="27147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运输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O</a:t>
            </a:r>
            <a:r>
              <a:rPr b="1" lang="en-US" sz="3200" spc="-1" strike="noStrike" baseline="-14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CO</a:t>
            </a:r>
            <a:r>
              <a:rPr b="1" lang="en-US" sz="3200" spc="-1" strike="noStrike" baseline="-16000">
                <a:solidFill>
                  <a:srgbClr val="000066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缓冲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Rectangle 29"/>
          <p:cNvSpPr/>
          <p:nvPr/>
        </p:nvSpPr>
        <p:spPr>
          <a:xfrm>
            <a:off x="971640" y="1989000"/>
            <a:ext cx="6678360" cy="108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.5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8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.6×10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万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/mm</a:t>
            </a:r>
            <a:r>
              <a:rPr b="1" lang="en-US" sz="2800" spc="-1" strike="noStrike" baseline="30000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Rectangle 31"/>
          <p:cNvSpPr/>
          <p:nvPr/>
        </p:nvSpPr>
        <p:spPr>
          <a:xfrm>
            <a:off x="1258920" y="3860640"/>
            <a:ext cx="3887640" cy="10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男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2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6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女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1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50g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／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75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169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渗透脆性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(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华文新魏"/>
              </a:rPr>
              <a:t>osmotic fragility</a:t>
            </a:r>
            <a:r>
              <a:rPr b="1" lang="en-US" sz="3200" spc="-1" strike="noStrike">
                <a:solidFill>
                  <a:srgbClr val="000058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94920" y="306828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在低渗盐溶液中易破裂、溶血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2340000" y="3940200"/>
            <a:ext cx="289080" cy="79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611280" y="4797360"/>
            <a:ext cx="784836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对低渗盐溶液有一定的抵抗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抵抗力与渗透脆性呈反变关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700360" y="4227480"/>
            <a:ext cx="60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35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完全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溶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627280" y="3651120"/>
            <a:ext cx="60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0.42%NaCl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溶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开始溶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1217160" y="4011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642960" y="256536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细胞渗透脆性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250920" y="1268280"/>
            <a:ext cx="716256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㈡</a:t>
            </a: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红细胞的生理特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3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75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3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75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75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75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24000" y="227664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能较稳定的悬浮于血浆不易下沉的特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测定指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571680" y="5500800"/>
            <a:ext cx="486396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34c74"/>
                </a:solidFill>
                <a:latin typeface="宋体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男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5 mm/h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女：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 mm/h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324000" y="981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悬浮稳定性</a:t>
            </a:r>
            <a:r>
              <a:rPr b="1" lang="zh-CN" sz="60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suspension stability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0" y="3286080"/>
            <a:ext cx="7667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沉降率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，血沉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通常将第一小时末红细胞下沉的距离，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SR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2"/>
          <p:cNvSpPr/>
          <p:nvPr/>
        </p:nvSpPr>
        <p:spPr>
          <a:xfrm>
            <a:off x="4187160" y="3716280"/>
            <a:ext cx="52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球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纤维蛋白原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胆固醇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Text Box 47"/>
          <p:cNvSpPr/>
          <p:nvPr/>
        </p:nvSpPr>
        <p:spPr>
          <a:xfrm>
            <a:off x="2106720" y="26370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成分变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Text Box 48"/>
          <p:cNvSpPr/>
          <p:nvPr/>
        </p:nvSpPr>
        <p:spPr>
          <a:xfrm>
            <a:off x="539640" y="46530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血浆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Line 50"/>
          <p:cNvSpPr/>
          <p:nvPr/>
        </p:nvSpPr>
        <p:spPr>
          <a:xfrm>
            <a:off x="4859280" y="4005360"/>
            <a:ext cx="165600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Text Box 52"/>
          <p:cNvSpPr/>
          <p:nvPr/>
        </p:nvSpPr>
        <p:spPr>
          <a:xfrm>
            <a:off x="3203640" y="5300640"/>
            <a:ext cx="22096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卵磷脂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55"/>
          <p:cNvSpPr/>
          <p:nvPr/>
        </p:nvSpPr>
        <p:spPr>
          <a:xfrm>
            <a:off x="6659640" y="4221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62"/>
          <p:cNvGrpSpPr/>
          <p:nvPr/>
        </p:nvGrpSpPr>
        <p:grpSpPr>
          <a:xfrm>
            <a:off x="2195640" y="4076640"/>
            <a:ext cx="838080" cy="1676520"/>
            <a:chOff x="2195640" y="4076640"/>
            <a:chExt cx="838080" cy="1676520"/>
          </a:xfrm>
        </p:grpSpPr>
        <p:sp>
          <p:nvSpPr>
            <p:cNvPr id="575" name="Line 58"/>
            <p:cNvSpPr/>
            <p:nvPr/>
          </p:nvSpPr>
          <p:spPr>
            <a:xfrm>
              <a:off x="2195640" y="4914720"/>
              <a:ext cx="45720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Line 59"/>
            <p:cNvSpPr/>
            <p:nvPr/>
          </p:nvSpPr>
          <p:spPr>
            <a:xfrm>
              <a:off x="2652840" y="4076640"/>
              <a:ext cx="0" cy="16765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7" name="Line 60"/>
            <p:cNvSpPr/>
            <p:nvPr/>
          </p:nvSpPr>
          <p:spPr>
            <a:xfrm>
              <a:off x="2652840" y="575316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8" name="Line 61"/>
            <p:cNvSpPr/>
            <p:nvPr/>
          </p:nvSpPr>
          <p:spPr>
            <a:xfrm>
              <a:off x="2652840" y="4076640"/>
              <a:ext cx="380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9" name="Line 63"/>
          <p:cNvSpPr/>
          <p:nvPr/>
        </p:nvSpPr>
        <p:spPr>
          <a:xfrm flipV="1">
            <a:off x="4932360" y="4723920"/>
            <a:ext cx="158292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Text Box 64"/>
          <p:cNvSpPr/>
          <p:nvPr/>
        </p:nvSpPr>
        <p:spPr>
          <a:xfrm>
            <a:off x="6227640" y="5589720"/>
            <a:ext cx="13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ESR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Rectangle 68"/>
          <p:cNvSpPr/>
          <p:nvPr/>
        </p:nvSpPr>
        <p:spPr>
          <a:xfrm>
            <a:off x="192240" y="155736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ESR↑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Line 69"/>
          <p:cNvSpPr/>
          <p:nvPr/>
        </p:nvSpPr>
        <p:spPr>
          <a:xfrm>
            <a:off x="5724360" y="4508640"/>
            <a:ext cx="7923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Line 70"/>
          <p:cNvSpPr/>
          <p:nvPr/>
        </p:nvSpPr>
        <p:spPr>
          <a:xfrm>
            <a:off x="4859280" y="5589720"/>
            <a:ext cx="1152720" cy="144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Line 71"/>
          <p:cNvSpPr/>
          <p:nvPr/>
        </p:nvSpPr>
        <p:spPr>
          <a:xfrm flipV="1">
            <a:off x="4859280" y="5949720"/>
            <a:ext cx="1154160" cy="215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24000" y="2421000"/>
            <a:ext cx="7416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概念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发生主动变形后又回复原状的特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）原因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红细胞呈双凹碟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324000" y="1197000"/>
            <a:ext cx="815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00058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可塑变形性</a:t>
            </a:r>
            <a:r>
              <a:rPr b="1" lang="zh-CN" sz="66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(</a:t>
            </a:r>
            <a:r>
              <a:rPr b="0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plastic deformation of erythrocyte</a:t>
            </a:r>
            <a:r>
              <a:rPr b="1" lang="en-US" sz="3600" spc="-1" strike="noStrike">
                <a:solidFill>
                  <a:srgbClr val="000058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395280" y="4648320"/>
            <a:ext cx="5616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临床：遗传性球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75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75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75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259920" y="1197000"/>
            <a:ext cx="8610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（三）红细胞的生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红骨髓造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1"/>
          <p:cNvSpPr/>
          <p:nvPr/>
        </p:nvSpPr>
        <p:spPr>
          <a:xfrm>
            <a:off x="635760" y="3357720"/>
            <a:ext cx="911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造血干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1720080" y="314172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系定向祖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3162240" y="3500280"/>
            <a:ext cx="5461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3782520" y="3424320"/>
            <a:ext cx="9118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早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790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TextBox 13"/>
          <p:cNvSpPr/>
          <p:nvPr/>
        </p:nvSpPr>
        <p:spPr>
          <a:xfrm>
            <a:off x="579852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晚幼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TextBox 14"/>
          <p:cNvSpPr/>
          <p:nvPr/>
        </p:nvSpPr>
        <p:spPr>
          <a:xfrm>
            <a:off x="6878160" y="3429000"/>
            <a:ext cx="91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网织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TextBox 15"/>
          <p:cNvSpPr/>
          <p:nvPr/>
        </p:nvSpPr>
        <p:spPr>
          <a:xfrm>
            <a:off x="8325000" y="3716280"/>
            <a:ext cx="546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红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99" name="直接箭头连接符 4"/>
          <p:cNvCxnSpPr/>
          <p:nvPr/>
        </p:nvCxnSpPr>
        <p:spPr>
          <a:xfrm>
            <a:off x="1547640" y="40762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0" name="直接箭头连接符 18"/>
          <p:cNvCxnSpPr/>
          <p:nvPr/>
        </p:nvCxnSpPr>
        <p:spPr>
          <a:xfrm>
            <a:off x="2722320" y="40762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1" name="直接箭头连接符 19"/>
          <p:cNvCxnSpPr/>
          <p:nvPr/>
        </p:nvCxnSpPr>
        <p:spPr>
          <a:xfrm>
            <a:off x="3708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直接箭头连接符 20"/>
          <p:cNvCxnSpPr/>
          <p:nvPr/>
        </p:nvCxnSpPr>
        <p:spPr>
          <a:xfrm>
            <a:off x="4716360" y="4088880"/>
            <a:ext cx="432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直接箭头连接符 21"/>
          <p:cNvCxnSpPr/>
          <p:nvPr/>
        </p:nvCxnSpPr>
        <p:spPr>
          <a:xfrm>
            <a:off x="5702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直接箭头连接符 22"/>
          <p:cNvCxnSpPr/>
          <p:nvPr/>
        </p:nvCxnSpPr>
        <p:spPr>
          <a:xfrm>
            <a:off x="671004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直接箭头连接符 23"/>
          <p:cNvCxnSpPr/>
          <p:nvPr/>
        </p:nvCxnSpPr>
        <p:spPr>
          <a:xfrm>
            <a:off x="7789680" y="408888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6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42920" y="2179440"/>
            <a:ext cx="504180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的组成和理化性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56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457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0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464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1989720" y="457992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962720" y="52293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" name="Group 11"/>
          <p:cNvGrpSpPr/>
          <p:nvPr/>
        </p:nvGrpSpPr>
        <p:grpSpPr>
          <a:xfrm>
            <a:off x="1817640" y="5229360"/>
            <a:ext cx="687240" cy="593640"/>
            <a:chOff x="1817640" y="5229360"/>
            <a:chExt cx="687240" cy="593640"/>
          </a:xfrm>
        </p:grpSpPr>
        <p:sp>
          <p:nvSpPr>
            <p:cNvPr id="476" name="AutoShape 12"/>
            <p:cNvSpPr/>
            <p:nvPr/>
          </p:nvSpPr>
          <p:spPr>
            <a:xfrm>
              <a:off x="1823040" y="5239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7" name="AutoShape 13"/>
            <p:cNvSpPr/>
            <p:nvPr/>
          </p:nvSpPr>
          <p:spPr>
            <a:xfrm>
              <a:off x="1817640" y="5229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8" name="AutoShape 14"/>
            <p:cNvSpPr/>
            <p:nvPr/>
          </p:nvSpPr>
          <p:spPr>
            <a:xfrm>
              <a:off x="1857600" y="5264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9" name="Text Box 17"/>
          <p:cNvSpPr/>
          <p:nvPr/>
        </p:nvSpPr>
        <p:spPr>
          <a:xfrm>
            <a:off x="1970280" y="5300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2843280" y="2997360"/>
            <a:ext cx="5041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2843280" y="3789360"/>
            <a:ext cx="2759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2843280" y="4516560"/>
            <a:ext cx="504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2843280" y="5221440"/>
            <a:ext cx="5041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2459160" y="5861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630360" y="1484280"/>
            <a:ext cx="8305560" cy="46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．红细胞生成所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基本原料：蛋白质和铁              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辅助因子：叶酸和维生素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46ca6"/>
                </a:solidFill>
                <a:latin typeface="Arial"/>
                <a:ea typeface="黑体"/>
              </a:rPr>
              <a:t>12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铁    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合成血红蛋白的必需原料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95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％来自体内铁的再利用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缺铁，使合成血红蛋白不足，引起小细胞低色素性贫血，即缺铁性贫血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0" y="362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0" y="1339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吸收与内因子有关，增加叶酸在体内的利用率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维生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36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活化后参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N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合成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叶酸与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 baseline="-30000">
                <a:solidFill>
                  <a:srgbClr val="ff3300"/>
                </a:solidFill>
                <a:latin typeface="Times New Roman"/>
                <a:ea typeface="黑体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缺乏都引起巨幼红细胞贫血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324000" y="1484280"/>
            <a:ext cx="830556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促红细胞生成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EP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肾皮质管周细胞产生，对组织中氧分压的降低敏感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生成过程各时期红细胞的增殖与分化。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主要细胞因子对红细胞生成的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138240" y="4030560"/>
            <a:ext cx="8964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25520" indent="-132552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）雄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促进肾促红细胞生成素的生成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1325520" indent="-132552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②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直接作用于骨髓，促进骨髓红细胞的生成及释放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0920" y="1199880"/>
            <a:ext cx="76960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黑体"/>
                <a:ea typeface="黑体"/>
              </a:rPr>
              <a:t>二、白细胞生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700280"/>
            <a:ext cx="77724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正常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年人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：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.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/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5" descr="013b1"/>
          <p:cNvPicPr/>
          <p:nvPr/>
        </p:nvPicPr>
        <p:blipFill>
          <a:blip r:embed="rId1"/>
          <a:stretch/>
        </p:blipFill>
        <p:spPr>
          <a:xfrm>
            <a:off x="4202280" y="4987800"/>
            <a:ext cx="1465200" cy="15670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013b2"/>
          <p:cNvPicPr/>
          <p:nvPr/>
        </p:nvPicPr>
        <p:blipFill>
          <a:blip r:embed="rId2"/>
          <a:stretch/>
        </p:blipFill>
        <p:spPr>
          <a:xfrm>
            <a:off x="2259000" y="5010120"/>
            <a:ext cx="1515960" cy="14605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013b3"/>
          <p:cNvPicPr/>
          <p:nvPr/>
        </p:nvPicPr>
        <p:blipFill>
          <a:blip r:embed="rId3"/>
          <a:stretch/>
        </p:blipFill>
        <p:spPr>
          <a:xfrm>
            <a:off x="504720" y="4959360"/>
            <a:ext cx="1341720" cy="1492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013b4"/>
          <p:cNvPicPr/>
          <p:nvPr/>
        </p:nvPicPr>
        <p:blipFill>
          <a:blip r:embed="rId4"/>
          <a:stretch/>
        </p:blipFill>
        <p:spPr>
          <a:xfrm>
            <a:off x="5916600" y="4826160"/>
            <a:ext cx="1279440" cy="1684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9" descr="013b5"/>
          <p:cNvPicPr/>
          <p:nvPr/>
        </p:nvPicPr>
        <p:blipFill>
          <a:blip r:embed="rId5"/>
          <a:stretch/>
        </p:blipFill>
        <p:spPr>
          <a:xfrm>
            <a:off x="7394400" y="4856040"/>
            <a:ext cx="1559160" cy="1562400"/>
          </a:xfrm>
          <a:prstGeom prst="rect">
            <a:avLst/>
          </a:prstGeom>
          <a:ln w="0">
            <a:noFill/>
          </a:ln>
        </p:spPr>
      </p:pic>
      <p:sp>
        <p:nvSpPr>
          <p:cNvPr id="630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Line 2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2" name="Line 3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1116000" y="1700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名称               百分比          主要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1219320" y="274320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914400" y="2438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性粒细胞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 ~70%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与消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酸性粒细胞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% ~4%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过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嗜碱性粒细胞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5% ~1%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参与变态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淋巴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0%~40%    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细胞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细胞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体液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核细胞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 ~8%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吞噬、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1523880" y="990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白细胞分类及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7" name="Line 9"/>
          <p:cNvSpPr/>
          <p:nvPr/>
        </p:nvSpPr>
        <p:spPr>
          <a:xfrm>
            <a:off x="914400" y="1600200"/>
            <a:ext cx="7696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8" name="Line 10"/>
          <p:cNvSpPr/>
          <p:nvPr/>
        </p:nvSpPr>
        <p:spPr>
          <a:xfrm>
            <a:off x="990720" y="236232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110600" y="3789360"/>
            <a:ext cx="3097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小板的生理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1258920" y="5734080"/>
            <a:ext cx="41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致聚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诱导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剂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539640" y="4437000"/>
            <a:ext cx="8604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黏附</a:t>
            </a:r>
            <a:r>
              <a:rPr b="0" lang="en-US" sz="28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与非血小板表面的黏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11280" y="5157720"/>
            <a:ext cx="81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聚集</a:t>
            </a:r>
            <a:r>
              <a:rPr b="0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: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血小板彼此黏着的现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8566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三、血小板（</a:t>
            </a:r>
            <a:r>
              <a:rPr b="1" lang="en-US" sz="4000" spc="-1" strike="noStrike">
                <a:solidFill>
                  <a:srgbClr val="000058"/>
                </a:solidFill>
                <a:latin typeface="Arial"/>
                <a:ea typeface="黑体"/>
              </a:rPr>
              <a:t>platelet</a:t>
            </a:r>
            <a:r>
              <a:rPr b="1" lang="zh-CN" sz="4000" spc="-1" strike="noStrike">
                <a:solidFill>
                  <a:srgbClr val="000058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1166760" y="2060640"/>
            <a:ext cx="29239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㈠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形态和数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527400" y="2708280"/>
            <a:ext cx="12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形态</a:t>
            </a:r>
            <a:r>
              <a:rPr b="1" lang="en-US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2050920" y="2708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36"/>
                </a:solidFill>
                <a:latin typeface="Times New Roman"/>
                <a:ea typeface="黑体"/>
              </a:rPr>
              <a:t>体积小，无核，梭形或椭圆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95280" y="3212640"/>
            <a:ext cx="8067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正常值：（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58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×10</a:t>
            </a:r>
            <a:r>
              <a:rPr b="1" lang="en-US" sz="2800" spc="-1" strike="noStrike" baseline="38000">
                <a:solidFill>
                  <a:srgbClr val="000058"/>
                </a:solidFill>
                <a:latin typeface="黑体"/>
                <a:ea typeface="黑体"/>
              </a:rPr>
              <a:t>9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/L</a:t>
            </a:r>
            <a:r>
              <a:rPr b="1" lang="en-US" sz="2800" spc="-1" strike="noStrike">
                <a:solidFill>
                  <a:srgbClr val="000058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75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3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75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2" dur="75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75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533520" y="1687680"/>
            <a:ext cx="861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①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一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迅速、可逆，外源性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低剂量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)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8360" y="2997360"/>
            <a:ext cx="83818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②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第二聚集时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特点：缓慢、不可逆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内源性（高剂量）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引起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3640" y="7729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AD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380880" y="4869000"/>
            <a:ext cx="876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58"/>
                </a:solidFill>
                <a:latin typeface="Arial"/>
                <a:ea typeface="宋体"/>
              </a:rPr>
              <a:t>）血栓烷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(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TXA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Arial"/>
                <a:ea typeface="宋体"/>
              </a:rPr>
              <a:t>PGE</a:t>
            </a:r>
            <a:r>
              <a:rPr b="1" lang="en-US" sz="3200" spc="-1" strike="noStrike" baseline="-30000">
                <a:solidFill>
                  <a:srgbClr val="000058"/>
                </a:solidFill>
                <a:latin typeface="Arial"/>
                <a:ea typeface="宋体"/>
              </a:rPr>
              <a:t>2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NE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，凝血酶，组胺等促进聚集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3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4"/>
          <p:cNvSpPr/>
          <p:nvPr/>
        </p:nvSpPr>
        <p:spPr>
          <a:xfrm>
            <a:off x="684360" y="162864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3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释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吸附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5. 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收缩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971640" y="1700280"/>
            <a:ext cx="627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释放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ATP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5-HT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儿茶酚胺、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Ca 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2+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K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宋体"/>
              </a:rPr>
              <a:t>+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等活性物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1116000" y="357336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吸附凝血因子，促进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116000" y="5373720"/>
            <a:ext cx="62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收缩蛋白收缩，血凝块回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75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75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75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1" dur="75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6" dur="75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1" dur="75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1247760" y="1268280"/>
            <a:ext cx="2649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㈢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血小板的生理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1667880" y="2421000"/>
            <a:ext cx="63129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参与生理性止血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58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维持血管内皮的完整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血小板能沉着于血管壁填补内皮细胞脱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留下的空隙，对其进行修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紫癜：血小板减少引起毛细血管脆性增加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以及血管的微小破损所致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标题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 血细胞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539640" y="1093680"/>
            <a:ext cx="73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37160" indent="-13716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.*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血液凝固</a:t>
            </a:r>
            <a:r>
              <a:rPr b="1" lang="en-US" sz="4000" spc="-1" strike="noStrike">
                <a:solidFill>
                  <a:srgbClr val="000058"/>
                </a:solidFill>
                <a:latin typeface="华文新魏"/>
                <a:ea typeface="华文新魏"/>
              </a:rPr>
              <a:t>(blood coagulation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marL="137160" indent="-13716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964440" y="3284640"/>
            <a:ext cx="577800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㈠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凝血因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(blood coagulation factor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Rectangle 12"/>
          <p:cNvSpPr/>
          <p:nvPr/>
        </p:nvSpPr>
        <p:spPr>
          <a:xfrm>
            <a:off x="843120" y="407844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*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6" name="Rectangle 13"/>
          <p:cNvSpPr/>
          <p:nvPr/>
        </p:nvSpPr>
        <p:spPr>
          <a:xfrm>
            <a:off x="843120" y="5410080"/>
            <a:ext cx="340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种类及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755640" y="1916280"/>
            <a:ext cx="8029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由流动的液态变成不能流动的凝胶状态的过程</a:t>
            </a:r>
            <a:r>
              <a:rPr b="0" lang="zh-CN" sz="3600" spc="-1" strike="noStrike">
                <a:solidFill>
                  <a:srgbClr val="734c74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8" name="Rectangle 17"/>
          <p:cNvSpPr/>
          <p:nvPr/>
        </p:nvSpPr>
        <p:spPr>
          <a:xfrm>
            <a:off x="1555920" y="4879800"/>
            <a:ext cx="60847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58"/>
                </a:solidFill>
                <a:latin typeface="Times New Roman"/>
                <a:ea typeface="宋体"/>
              </a:rPr>
              <a:t>血浆与组织中直接参与凝血的物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8" dur="75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9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75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75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9640" y="1455840"/>
            <a:ext cx="813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的组成血细胞比容的概念，血液的一般理化特性，识别血浆渗透压的组成及其生理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熟记各类血细胞的正常值与功能，描述红细胞的特性和生成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描述血小板的生理特性和生理功能，生理性止血和出血时间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血液凝固的基本过程，识别内、外源凝血途径，说出抗凝系统和纤溶系统的组成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归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型系统的分型，知道血型检测，交叉配血试验和输血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DAFC-AE6F-4AE3-A86D-EA5AED1F2B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78920" y="1052640"/>
            <a:ext cx="914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28320" indent="-230040">
              <a:lnSpc>
                <a:spcPct val="2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同义名                          合成部位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原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酶原                                    肝细胞        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组织因子                                  内皮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+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Ⅴ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加速素易变因子               内皮细胞和血小板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Ⅶ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前转变素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Ⅷ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抗血友病因子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宋体"/>
                <a:ea typeface="宋体"/>
              </a:rPr>
              <a:t>Ⅹ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Stuart-Prower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因子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Ⅺ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凝血活酶前质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MS Mincho"/>
                <a:ea typeface="MS Mincho"/>
              </a:rPr>
              <a:t>Ⅻ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接触因子                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8320" indent="-2300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XIII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宋体"/>
              </a:rPr>
              <a:t>纤维蛋白稳定因子                     肝细胞</a:t>
            </a:r>
            <a:endParaRPr b="1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214200" y="5715000"/>
            <a:ext cx="87012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 flipV="1">
            <a:off x="324000" y="1988640"/>
            <a:ext cx="8700840" cy="1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>
            <a:off x="250920" y="1484280"/>
            <a:ext cx="87008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9528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凝血因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394920" y="1412640"/>
            <a:ext cx="83818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Ca</a:t>
            </a:r>
            <a:r>
              <a:rPr b="1" lang="en-US" sz="2800" spc="-1" strike="noStrike" baseline="38000">
                <a:solidFill>
                  <a:srgbClr val="00006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、磷脂外，都是蛋白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F</a:t>
            </a:r>
            <a:r>
              <a:rPr b="1" lang="en-US" sz="2800" spc="-1" strike="noStrike" baseline="-16000">
                <a:solidFill>
                  <a:srgbClr val="ff0066"/>
                </a:solidFill>
                <a:latin typeface="Times New Roman"/>
                <a:ea typeface="宋体"/>
              </a:rPr>
              <a:t>II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组织因子，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TF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） 外，都在血浆中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因子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肝合成，需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宋体"/>
                <a:ea typeface="宋体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除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钙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，均以无活性的酶原形式存在，需要其他水解酶的激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辅助因子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, V, Ⅷ ,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高分子量激肽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丝氨酸蛋白酶：包括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Ⅱ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Ⅸ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Ⅹ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 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Ⅺ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FⅫ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、前激肽释放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79280" y="982080"/>
            <a:ext cx="15750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特点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280" y="1126800"/>
            <a:ext cx="3759480" cy="641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㈡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凝血过程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5638680" y="3505320"/>
            <a:ext cx="9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391520" y="3505320"/>
            <a:ext cx="87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Ⅱ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2" name="Line 5"/>
          <p:cNvSpPr/>
          <p:nvPr/>
        </p:nvSpPr>
        <p:spPr>
          <a:xfrm>
            <a:off x="6172200" y="3886200"/>
            <a:ext cx="13096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5257800" y="2362320"/>
            <a:ext cx="6476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6477120" y="2362320"/>
            <a:ext cx="1028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Ｘ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5715000" y="27432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6553080" y="4572000"/>
            <a:ext cx="6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8077320" y="4572000"/>
            <a:ext cx="1066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Ⅰ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a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8" name="Line 11"/>
          <p:cNvSpPr/>
          <p:nvPr/>
        </p:nvSpPr>
        <p:spPr>
          <a:xfrm>
            <a:off x="6781680" y="29718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9" name="Text Box 12"/>
          <p:cNvSpPr/>
          <p:nvPr/>
        </p:nvSpPr>
        <p:spPr>
          <a:xfrm>
            <a:off x="6705720" y="3200400"/>
            <a:ext cx="1981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Ⅴ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2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0" name="Rectangle 13"/>
          <p:cNvSpPr/>
          <p:nvPr/>
        </p:nvSpPr>
        <p:spPr>
          <a:xfrm>
            <a:off x="108000" y="1773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ca6"/>
                </a:solidFill>
                <a:latin typeface="Arial"/>
                <a:ea typeface="宋体"/>
              </a:rPr>
              <a:t>*</a:t>
            </a: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基本过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1" name="Text Box 14"/>
          <p:cNvSpPr/>
          <p:nvPr/>
        </p:nvSpPr>
        <p:spPr>
          <a:xfrm>
            <a:off x="304920" y="2438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734c74"/>
                </a:solidFill>
                <a:latin typeface="Times New Roman"/>
                <a:ea typeface="宋体"/>
              </a:rPr>
              <a:t>） 凝血酶原激活物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304920" y="358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凝血酶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3" name="Text Box 16"/>
          <p:cNvSpPr/>
          <p:nvPr/>
        </p:nvSpPr>
        <p:spPr>
          <a:xfrm>
            <a:off x="304920" y="46483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4c74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734c74"/>
                </a:solidFill>
                <a:latin typeface="宋体"/>
                <a:ea typeface="宋体"/>
              </a:rPr>
              <a:t>）纤维蛋白的形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4" name="Line 17"/>
          <p:cNvSpPr/>
          <p:nvPr/>
        </p:nvSpPr>
        <p:spPr>
          <a:xfrm>
            <a:off x="380880" y="327672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5" name="Line 18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6" name="Line 19"/>
          <p:cNvSpPr/>
          <p:nvPr/>
        </p:nvSpPr>
        <p:spPr>
          <a:xfrm>
            <a:off x="7696080" y="4114800"/>
            <a:ext cx="0" cy="76212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7" name="Line 20"/>
          <p:cNvSpPr/>
          <p:nvPr/>
        </p:nvSpPr>
        <p:spPr>
          <a:xfrm>
            <a:off x="7086600" y="4952880"/>
            <a:ext cx="1219320" cy="0"/>
          </a:xfrm>
          <a:prstGeom prst="line">
            <a:avLst/>
          </a:prstGeom>
          <a:ln w="1908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8" name="Text Box 21"/>
          <p:cNvSpPr/>
          <p:nvPr/>
        </p:nvSpPr>
        <p:spPr>
          <a:xfrm>
            <a:off x="5562720" y="16002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Ⅲ    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Line 22"/>
          <p:cNvSpPr/>
          <p:nvPr/>
        </p:nvSpPr>
        <p:spPr>
          <a:xfrm>
            <a:off x="5867280" y="2057400"/>
            <a:ext cx="15264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Line 23"/>
          <p:cNvSpPr/>
          <p:nvPr/>
        </p:nvSpPr>
        <p:spPr>
          <a:xfrm flipH="1">
            <a:off x="6248160" y="2057400"/>
            <a:ext cx="22860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75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4" dur="75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3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3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内容占位符 2" descr=""/>
          <p:cNvPicPr/>
          <p:nvPr/>
        </p:nvPicPr>
        <p:blipFill>
          <a:blip r:embed="rId1"/>
          <a:stretch/>
        </p:blipFill>
        <p:spPr>
          <a:xfrm>
            <a:off x="1511280" y="1413000"/>
            <a:ext cx="6121440" cy="4876560"/>
          </a:xfrm>
          <a:prstGeom prst="rect">
            <a:avLst/>
          </a:prstGeom>
          <a:ln w="0">
            <a:noFill/>
          </a:ln>
        </p:spPr>
      </p:pic>
      <p:sp>
        <p:nvSpPr>
          <p:cNvPr id="703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4"/>
          <p:cNvSpPr/>
          <p:nvPr/>
        </p:nvSpPr>
        <p:spPr>
          <a:xfrm>
            <a:off x="611280" y="1268280"/>
            <a:ext cx="792144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三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影响血液凝固的因素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826920" y="1773360"/>
            <a:ext cx="6985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温度：在一定范围内，温度升高，凝血加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粗糙面：易于激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F</a:t>
            </a:r>
            <a:r>
              <a:rPr b="1" lang="en-US" sz="3200" spc="-1" strike="noStrike">
                <a:solidFill>
                  <a:srgbClr val="000058"/>
                </a:solidFill>
                <a:latin typeface="MS Mincho"/>
                <a:ea typeface="MS Mincho"/>
              </a:rPr>
              <a:t>Ⅻ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Ca</a:t>
            </a:r>
            <a:r>
              <a:rPr b="1" lang="en-US" sz="3200" spc="-1" strike="noStrike" baseline="30000">
                <a:solidFill>
                  <a:srgbClr val="000058"/>
                </a:solidFill>
                <a:latin typeface="Times New Roman"/>
                <a:ea typeface="宋体"/>
              </a:rPr>
              <a:t>2+</a:t>
            </a:r>
            <a:r>
              <a:rPr b="0" lang="en-US" sz="3200" spc="-1" strike="noStrike" baseline="30000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spcBef>
                <a:spcPts val="400"/>
              </a:spcBef>
              <a:buClr>
                <a:srgbClr val="0000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凝血因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6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4"/>
          <p:cNvSpPr/>
          <p:nvPr/>
        </p:nvSpPr>
        <p:spPr>
          <a:xfrm>
            <a:off x="395280" y="1557360"/>
            <a:ext cx="61722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（四）抗凝血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24000" y="2565360"/>
            <a:ext cx="8316720" cy="27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抗凝血酶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Ⅲ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血液中最重要的抗凝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产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肝和血管内皮细胞产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作用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：使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Ⅸ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  <a:ea typeface="宋体"/>
              </a:rPr>
              <a:t>Ⅹ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66"/>
                </a:solidFill>
                <a:latin typeface="MS Mincho"/>
                <a:ea typeface="MS Mincho"/>
              </a:rPr>
              <a:t>Ⅻ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失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机制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丝氨酸蛋白酶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9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75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75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75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75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>
            <a:hlinkClick r:id="rId1" action="ppaction://hlinksldjump"/>
          </p:cNvPr>
          <p:cNvSpPr/>
          <p:nvPr/>
        </p:nvSpPr>
        <p:spPr>
          <a:xfrm>
            <a:off x="571680" y="1484280"/>
            <a:ext cx="41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蛋白质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C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592200" y="256536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蛋白质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肝合成需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VitK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①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灭活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Ⅴ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Ⅷ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a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②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抑制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Ⅹ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、凝血酶原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；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468360" y="3645000"/>
            <a:ext cx="853452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小血管内皮细胞产生，抑制外源性凝血过程及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Ⅶ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a-TF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对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F</a:t>
            </a:r>
            <a:r>
              <a:rPr b="0" lang="en-US" sz="3200" spc="-1" strike="noStrike">
                <a:solidFill>
                  <a:srgbClr val="046ca6"/>
                </a:solidFill>
                <a:latin typeface="MS Mincho"/>
                <a:ea typeface="MS Mincho"/>
              </a:rPr>
              <a:t>Ⅸ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激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1320840" y="177336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3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组织因子途径抑制物（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>
            <a:hlinkClick r:id="rId1" action="ppaction://hlinksldjump"/>
          </p:cNvPr>
          <p:cNvSpPr/>
          <p:nvPr/>
        </p:nvSpPr>
        <p:spPr>
          <a:xfrm>
            <a:off x="826920" y="134136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4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肝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692280" y="2349360"/>
            <a:ext cx="8083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由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肥大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及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嗜碱性粒细胞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产生，肺、心、肝、肌肉含量丰富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①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间接增强抗凝血酶</a:t>
            </a:r>
            <a:r>
              <a:rPr b="0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Ⅲ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的活性；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②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刺激血管内皮细胞释放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TFPI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③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增强蛋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的活性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11280" y="175752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维蛋白溶解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纤维蛋白逐渐溶解的过程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简称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-367920" y="3213000"/>
            <a:ext cx="8812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纤溶系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、纤溶酶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抑制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二、纤维蛋白溶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2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75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血液的组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1" name="Picture 5" descr="血液组成"/>
          <p:cNvPicPr/>
          <p:nvPr/>
        </p:nvPicPr>
        <p:blipFill>
          <a:blip r:embed="rId1"/>
          <a:stretch/>
        </p:blipFill>
        <p:spPr>
          <a:xfrm>
            <a:off x="1547640" y="1946160"/>
            <a:ext cx="6696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5" descr="C:\Users\xiaoqb\Desktop\第三章血液-姚阳\图片\纤溶.jpg"/>
          <p:cNvPicPr/>
          <p:nvPr/>
        </p:nvPicPr>
        <p:blipFill>
          <a:blip r:embed="rId1"/>
          <a:stretch/>
        </p:blipFill>
        <p:spPr>
          <a:xfrm>
            <a:off x="34920" y="1989000"/>
            <a:ext cx="9093240" cy="3384720"/>
          </a:xfrm>
          <a:prstGeom prst="rect">
            <a:avLst/>
          </a:prstGeom>
          <a:ln w="0">
            <a:noFill/>
          </a:ln>
        </p:spPr>
      </p:pic>
      <p:sp>
        <p:nvSpPr>
          <p:cNvPr id="72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2780640" y="981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一）纤溶酶原的激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1704960" y="1747800"/>
            <a:ext cx="30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组织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1813680" y="235584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35b8d"/>
                </a:solidFill>
                <a:latin typeface="Times New Roman"/>
                <a:ea typeface="黑体"/>
              </a:rPr>
              <a:t>尿激酶型纤溶酶原激活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2220120" y="294156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二）纤维蛋白与纤维蛋白原的降解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1819800" y="37958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（三）纤溶抑制物及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404640" y="4653000"/>
            <a:ext cx="84981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纤溶酶原激活物抑制剂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-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2.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α2-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纤溶酶：抑制纤溶酶活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1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凝固和纤维蛋白溶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989000"/>
            <a:ext cx="8136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1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血型（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blood group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）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膜上特异抗原的类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红细胞凝集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-24696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细胞凝集成簇的现象，其本质是抗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抗体反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7" dur="75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75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7" dur="75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2" dur="75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3"/>
          <p:cNvSpPr/>
          <p:nvPr/>
        </p:nvSpPr>
        <p:spPr>
          <a:xfrm>
            <a:off x="695520" y="105264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一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. ABO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755640" y="1844640"/>
            <a:ext cx="74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ABO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血型抗原与分型依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依据：红细胞膜上所含凝集原的种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Text Box 73"/>
          <p:cNvSpPr/>
          <p:nvPr/>
        </p:nvSpPr>
        <p:spPr>
          <a:xfrm>
            <a:off x="755640" y="3645000"/>
            <a:ext cx="7889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根据红细胞膜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是否存在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与凝集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将血液分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种血型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黑体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、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9" dur="75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75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75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805040" y="764640"/>
            <a:ext cx="733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.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系统分型与遗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血型       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红细胞         血清              基因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（凝集原） （凝集素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>
            <a:off x="228600" y="1752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2" name="Line 6"/>
          <p:cNvSpPr/>
          <p:nvPr/>
        </p:nvSpPr>
        <p:spPr>
          <a:xfrm>
            <a:off x="304920" y="6324480"/>
            <a:ext cx="868680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458640" y="31240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230040" y="18860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611280" y="3886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06000" y="4648320"/>
            <a:ext cx="10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AB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459000" y="5410080"/>
            <a:ext cx="7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08000" y="3124080"/>
            <a:ext cx="7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2744640" y="3124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692040" y="3124080"/>
            <a:ext cx="18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2667960" y="388620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4607640" y="3809880"/>
            <a:ext cx="81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6693120" y="3809880"/>
            <a:ext cx="17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B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2502000" y="4648320"/>
            <a:ext cx="11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2751480" y="5410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6783120" y="45720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465660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4750920" y="5410080"/>
            <a:ext cx="146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、抗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6858720" y="54100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O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0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2"/>
          <p:cNvSpPr/>
          <p:nvPr/>
        </p:nvSpPr>
        <p:spPr>
          <a:xfrm>
            <a:off x="2868840" y="907920"/>
            <a:ext cx="30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. AB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血型鉴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62" name="Picture 2" descr="C:\Users\xiaoqb\Desktop\第三章血液-姚阳\图片\血型检测.jpg"/>
          <p:cNvPicPr/>
          <p:nvPr/>
        </p:nvPicPr>
        <p:blipFill>
          <a:blip r:embed="rId1"/>
          <a:stretch/>
        </p:blipFill>
        <p:spPr>
          <a:xfrm>
            <a:off x="468360" y="1628640"/>
            <a:ext cx="7380360" cy="4754520"/>
          </a:xfrm>
          <a:prstGeom prst="rect">
            <a:avLst/>
          </a:prstGeom>
          <a:ln w="0">
            <a:noFill/>
          </a:ln>
        </p:spPr>
      </p:pic>
      <p:sp>
        <p:nvSpPr>
          <p:cNvPr id="76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4896000" cy="6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输血原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04920" y="3962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      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35268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B      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752480" y="2514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O       O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1676520" y="5410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AB     AB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9" name="Line 7"/>
          <p:cNvSpPr/>
          <p:nvPr/>
        </p:nvSpPr>
        <p:spPr>
          <a:xfrm>
            <a:off x="2362320" y="5715000"/>
            <a:ext cx="53316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0" name="Line 8"/>
          <p:cNvSpPr/>
          <p:nvPr/>
        </p:nvSpPr>
        <p:spPr>
          <a:xfrm>
            <a:off x="762120" y="426708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1" name="Line 9"/>
          <p:cNvSpPr/>
          <p:nvPr/>
        </p:nvSpPr>
        <p:spPr>
          <a:xfrm>
            <a:off x="3809880" y="4267080"/>
            <a:ext cx="53352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Line 10"/>
          <p:cNvSpPr/>
          <p:nvPr/>
        </p:nvSpPr>
        <p:spPr>
          <a:xfrm>
            <a:off x="2286000" y="2819520"/>
            <a:ext cx="609480" cy="0"/>
          </a:xfrm>
          <a:prstGeom prst="line">
            <a:avLst/>
          </a:prstGeom>
          <a:ln w="28440">
            <a:solidFill>
              <a:srgbClr val="0000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11"/>
          <p:cNvSpPr/>
          <p:nvPr/>
        </p:nvSpPr>
        <p:spPr>
          <a:xfrm flipH="1">
            <a:off x="990720" y="297180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3352680" y="2971800"/>
            <a:ext cx="76212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2666880" y="2895480"/>
            <a:ext cx="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6" name="Line 14"/>
          <p:cNvSpPr/>
          <p:nvPr/>
        </p:nvSpPr>
        <p:spPr>
          <a:xfrm>
            <a:off x="990720" y="4343400"/>
            <a:ext cx="76176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3504960" y="4419720"/>
            <a:ext cx="685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8" name="Text Box 16"/>
          <p:cNvSpPr/>
          <p:nvPr/>
        </p:nvSpPr>
        <p:spPr>
          <a:xfrm>
            <a:off x="5105520" y="2819520"/>
            <a:ext cx="419076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同型输血 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异型输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少量、慢且观察反应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9" name="Rectangle 17"/>
          <p:cNvSpPr/>
          <p:nvPr/>
        </p:nvSpPr>
        <p:spPr>
          <a:xfrm>
            <a:off x="2669400" y="2133720"/>
            <a:ext cx="51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供血者的红</a:t>
            </a:r>
            <a:r>
              <a:rPr b="1" lang="en-US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58"/>
                </a:solidFill>
                <a:latin typeface="Times New Roman"/>
                <a:ea typeface="宋体"/>
              </a:rPr>
              <a:t>不被受血者的血清所凝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3143160" y="9079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输血与交叉配血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交叉配血试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5334120" y="1523880"/>
            <a:ext cx="37018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①</a:t>
            </a:r>
            <a:r>
              <a:rPr b="1" lang="en-US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两侧都不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不凝次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配血基本相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00c1f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58"/>
                </a:solidFill>
                <a:latin typeface="Times New Roman"/>
                <a:ea typeface="宋体"/>
              </a:rPr>
              <a:t>主凝：配血不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84" name="Picture 2" descr="C:\Users\xiaoqb\Desktop\第三章血液-姚阳\图片\交叉配血试验.jpg"/>
          <p:cNvPicPr/>
          <p:nvPr/>
        </p:nvPicPr>
        <p:blipFill>
          <a:blip r:embed="rId1"/>
          <a:stretch/>
        </p:blipFill>
        <p:spPr>
          <a:xfrm>
            <a:off x="527040" y="1917720"/>
            <a:ext cx="4807080" cy="3405240"/>
          </a:xfrm>
          <a:prstGeom prst="rect">
            <a:avLst/>
          </a:prstGeom>
          <a:ln w="0">
            <a:noFill/>
          </a:ln>
        </p:spPr>
      </p:pic>
      <p:sp>
        <p:nvSpPr>
          <p:cNvPr id="7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0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3" dur="3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3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3" dur="3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8" dur="3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3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684000" y="1989000"/>
            <a:ext cx="8305560" cy="119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1.Rh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：以</a:t>
            </a: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抗原活性最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8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58"/>
                </a:solidFill>
                <a:latin typeface="宋体"/>
                <a:ea typeface="宋体"/>
              </a:rPr>
              <a:t>分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6"/>
          <p:cNvSpPr/>
          <p:nvPr/>
        </p:nvSpPr>
        <p:spPr>
          <a:xfrm>
            <a:off x="971640" y="3573360"/>
            <a:ext cx="7345440" cy="1657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红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膜上有无</a:t>
            </a:r>
            <a:r>
              <a:rPr b="1" lang="en-US" sz="3200" spc="-1" strike="noStrike">
                <a:solidFill>
                  <a:srgbClr val="ff3399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3399"/>
                </a:solidFill>
                <a:latin typeface="黑体"/>
                <a:ea typeface="黑体"/>
              </a:rPr>
              <a:t>抗原</a:t>
            </a:r>
            <a:r>
              <a:rPr b="0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：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① 有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阳性                          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                  ② 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无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—</a:t>
            </a:r>
            <a:r>
              <a:rPr b="1" lang="en-US" sz="32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200" spc="-1" strike="noStrike">
                <a:solidFill>
                  <a:srgbClr val="000058"/>
                </a:solidFill>
                <a:latin typeface="宋体"/>
                <a:ea typeface="宋体"/>
              </a:rPr>
              <a:t>阴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1006200" y="1126800"/>
            <a:ext cx="255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二、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宋体"/>
              </a:rPr>
              <a:t>Rh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血型系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3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300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细黑"/>
              </a:rPr>
              <a:t>3.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细黑"/>
              </a:rPr>
              <a:t>临床意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华文细黑"/>
              </a:rPr>
              <a:t>—</a:t>
            </a:r>
            <a:r>
              <a:rPr b="0" lang="en-US" sz="4000" spc="-1" strike="noStrike">
                <a:solidFill>
                  <a:srgbClr val="000058"/>
                </a:solidFill>
                <a:latin typeface="Arial"/>
                <a:ea typeface="华文细黑"/>
              </a:rPr>
              <a:t>Rh</a:t>
            </a:r>
            <a:r>
              <a:rPr b="0" lang="zh-CN" sz="4000" spc="-1" strike="noStrike">
                <a:solidFill>
                  <a:srgbClr val="000058"/>
                </a:solidFill>
                <a:latin typeface="Arial"/>
                <a:ea typeface="华文细黑"/>
              </a:rPr>
              <a:t>阴性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1430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两次接受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血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2. 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阴性孕妇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58"/>
                </a:solidFill>
                <a:latin typeface="宋体"/>
                <a:ea typeface="宋体"/>
              </a:rPr>
              <a:t>Rh</a:t>
            </a:r>
            <a:r>
              <a:rPr b="1" lang="zh-CN" sz="3600" spc="-1" strike="noStrike">
                <a:solidFill>
                  <a:srgbClr val="000058"/>
                </a:solidFill>
                <a:latin typeface="宋体"/>
                <a:ea typeface="宋体"/>
              </a:rPr>
              <a:t>阳性胎儿第二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五节  血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0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75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3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2" dur="3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300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3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900000" y="1628640"/>
            <a:ext cx="3656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细胞比容：血细胞在血液中所占的容积百分比称为血细胞比容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matocr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。正常成年男性血细胞比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女性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7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8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新生儿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"/>
          <p:cNvPicPr/>
          <p:nvPr/>
        </p:nvPicPr>
        <p:blipFill>
          <a:blip r:embed="rId1"/>
          <a:stretch/>
        </p:blipFill>
        <p:spPr>
          <a:xfrm>
            <a:off x="5219640" y="1628640"/>
            <a:ext cx="2800440" cy="43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1258920" y="334152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2195640" y="5695920"/>
            <a:ext cx="215640" cy="792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324000" y="171936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㈠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颜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Rectangle 9"/>
          <p:cNvSpPr/>
          <p:nvPr/>
        </p:nvSpPr>
        <p:spPr>
          <a:xfrm>
            <a:off x="1619280" y="327024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液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5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6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红细胞数量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619280" y="37735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3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浆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Rectangle 11"/>
          <p:cNvSpPr/>
          <p:nvPr/>
        </p:nvSpPr>
        <p:spPr>
          <a:xfrm>
            <a:off x="1619280" y="42782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RBC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0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09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，与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宋体"/>
              </a:rPr>
              <a:t>血红蛋白含量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Rectangle 12"/>
          <p:cNvSpPr/>
          <p:nvPr/>
        </p:nvSpPr>
        <p:spPr>
          <a:xfrm>
            <a:off x="763560" y="499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㈢黏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Rectangle 13"/>
          <p:cNvSpPr/>
          <p:nvPr/>
        </p:nvSpPr>
        <p:spPr>
          <a:xfrm>
            <a:off x="2484360" y="5479920"/>
            <a:ext cx="4218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全血：４～５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血浆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.6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4 /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363600" y="2568600"/>
            <a:ext cx="204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㈡</a:t>
            </a:r>
            <a:r>
              <a:rPr b="1" lang="en-US" sz="40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比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75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75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75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75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75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一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液的组成和理化性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1105920" y="2276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㈣血浆渗透压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1105920" y="32194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㈤血浆酸碱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液的理化特性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  <a:ea typeface="黑体"/>
              </a:rPr>
              <a:t>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Rectangle 12"/>
          <p:cNvSpPr/>
          <p:nvPr/>
        </p:nvSpPr>
        <p:spPr>
          <a:xfrm>
            <a:off x="1258920" y="4437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35</a:t>
            </a:r>
            <a:r>
              <a:rPr b="1" lang="zh-CN" sz="3600" spc="-1" strike="noStrike">
                <a:solidFill>
                  <a:srgbClr val="000066"/>
                </a:solidFill>
                <a:latin typeface="宋体"/>
                <a:ea typeface="宋体"/>
              </a:rPr>
              <a:t>～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  <a:ea typeface="宋体"/>
              </a:rPr>
              <a:t>7.45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Rectangle 13"/>
          <p:cNvSpPr/>
          <p:nvPr/>
        </p:nvSpPr>
        <p:spPr>
          <a:xfrm>
            <a:off x="4427640" y="4464000"/>
            <a:ext cx="4211640" cy="100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缓冲对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: 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NaH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/H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ff3399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ff3399"/>
                </a:solidFill>
                <a:latin typeface="宋体"/>
                <a:ea typeface="宋体"/>
              </a:rPr>
              <a:t> (20:1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  <a:ea typeface="宋体"/>
              </a:rPr>
              <a:t>），最重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4360" y="1052640"/>
            <a:ext cx="6696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一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的成分及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419840" y="2768760"/>
            <a:ext cx="166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血浆蛋白 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484200" y="3645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总量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85g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白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4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8g/L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球蛋白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0g/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纤维蛋白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1458360" y="2060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晶体物质溶液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140360" y="3573360"/>
            <a:ext cx="46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功能：形成血浆胶体渗透压；运输激素、脂质、离子、维生素代谢产物等；参与血液凝固、抗凝和纤溶等生理过程；抵御病原微生物的入侵；营养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血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4360" y="1052640"/>
            <a:ext cx="43923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二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血浆渗透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11280" y="180504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宋体"/>
              </a:rPr>
              <a:t>（一）渗透压概念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渗透压：溶液中的溶质颗粒通过半透膜对水的吸引力。  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8"/>
          <p:cNvSpPr/>
          <p:nvPr/>
        </p:nvSpPr>
        <p:spPr>
          <a:xfrm>
            <a:off x="684360" y="3716280"/>
            <a:ext cx="748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渗透：水分透过半透膜，由低浓度一侧向高浓度一侧溶液转移的现象。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468360" y="480384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*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决定渗透压的因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11280" y="537372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与溶质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颗粒数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成正变，与溶质种类和颗粒大小无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3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3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3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75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veiveiyang</cp:lastModifiedBy>
  <cp:lastPrinted>1899-12-30T00:00:00Z</cp:lastPrinted>
  <dcterms:modified xsi:type="dcterms:W3CDTF">2015-07-25T07:59:17Z</dcterms:modified>
  <cp:revision>6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